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54928"/>
        <c:axId val="48770000"/>
      </c:barChart>
      <c:catAx>
        <c:axId val="30454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70000"/>
        <c:crosses val="autoZero"/>
        <c:auto val="1"/>
        <c:lblAlgn val="ctr"/>
        <c:lblOffset val="100"/>
        <c:noMultiLvlLbl val="0"/>
      </c:catAx>
      <c:valAx>
        <c:axId val="48770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54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30F-8DB7-4505-B7CD-D9FC829D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FDC-A2E2-4BE8-804A-C3A4A88A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D48-A8CC-4DA2-8597-6104D851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720-92A2-43F5-8C1F-5E89B85A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FD7-C86D-41BA-B618-89DEBEFD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42D-B00C-4E80-BB4A-B60BF409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597-1C88-4B44-98AA-8C99EC7E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332-0B08-4848-A15E-DF29E714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7DC-0DF7-4508-A038-0D0A9892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84E-FB8C-42E7-9252-681444E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A1E-7984-4CFC-8CCF-65F1FB58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2A1-1C2C-41E3-A234-497EAC5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7E598-5222-4A0D-8ECF-A83283F1DD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