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16088"/>
        <c:axId val="73403405"/>
      </c:barChart>
      <c:catAx>
        <c:axId val="85016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03405"/>
        <c:crosses val="autoZero"/>
        <c:auto val="1"/>
        <c:lblAlgn val="ctr"/>
        <c:lblOffset val="100"/>
        <c:noMultiLvlLbl val="0"/>
      </c:catAx>
      <c:valAx>
        <c:axId val="73403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16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133-CD66-480D-A233-8A396F87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F24-37F6-46A6-AD6E-C1A617CD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B04-2884-4087-9A69-BE2C3593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48D-F8D8-4F29-86B1-577ADD7F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DD6-5DF0-4F58-AF6F-6BBCE1B3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FEA-0A1B-4C59-95EB-24D4ABC0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321-F4A6-44D4-965A-B15BC4D5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878-45F0-4A1C-A8E5-82307559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D6F-E573-4D3E-8CB8-41C3B817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4AA-0471-45E9-A65C-51448592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A3B-7964-42A7-9ED3-6B94F689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49D-18DA-4DE2-BD14-0B87BC83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75346-AF8C-4CCB-9E46-DF7FF5403C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