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23374A-1DE9-4C50-A4AF-5A6277A72A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839976-ACCE-41BF-B047-ED70B74CCC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218182-EC71-4930-A98C-A60AE3AB5A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7904F6-23E1-4892-BD86-F728865DE3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17A42B-950A-4142-89AE-8A5F49036C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B326A4-1DF4-4002-B63C-A47DFE41BB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B39CC0-4474-4A12-A71C-A12355B979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F00F43-10B9-4146-B4ED-A5BB8F48C8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B9C696-3484-4B78-B5F1-14865E81D9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54F606-7248-49FE-BB76-C5A30F3C1F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A3ED3C-3C08-4563-AD7F-B0D3DCE720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E22C81-002A-4C96-8825-AAC2A9B3A9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D73BFC-58EF-4587-8645-0CD1EAD211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2A85DA-3CCB-4533-A112-327DFF08F6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D79069-28C2-4465-AC85-D22677D100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BD6DDA-1896-4288-A151-162E0DCEE7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B877B3-2B3C-4A8E-A033-785074BF57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F5BDA0-8C2F-45FD-9A6E-60724DF329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6AB989-B060-46F8-A9EC-3B7485C1B8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59F20F-673A-4076-AB72-FC918E60C5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5C1295-2320-4150-8393-E6E7518965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87BA7E-942A-4685-9EBB-CA36B2FCA3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86C05E-DF4B-47D6-B32B-41954DC8BB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9CEB1E-A237-4F32-8B6E-C46AE9BE0B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7B40C-00C4-49E5-A59B-3EE89BEF83A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44B1D-34B6-49AC-93F1-CE9D1C4A4F1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13ABCB7-F976-4C28-8257-DE5C1FBDC55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36AFC76-1233-4B97-BF70-0972AE61D6E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8C97FB-5643-4E22-855A-585CF7E170B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30DDDE-0DEA-45EA-B5C0-0D05F2D96E5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A6DC26-C627-4073-BA09-3DDBD6B3BDC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5698F1-BCA2-49BB-83E1-E7DD0695D66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599777-F4F8-448D-B0C8-C2CB731CE96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E5B209-23B9-437C-938A-5A4300C1024D}"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43A1CE-DA19-47B3-BAAC-2D31830AAA25}"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CBAABA-CF68-4AAA-81AE-2DB43732C74F}"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42A949-F03E-484B-A676-1C2F792E95E0}"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78A64E-10D5-4317-A189-93E40FBAEF80}"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458691-E5D7-497F-AE30-8D6D4039DD0D}"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900EB3-A63B-43B5-BEBA-853B45251E40}"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407E94-2C90-4CE6-9FD6-F6DBAA08C571}"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C90E11-1574-4624-8F00-05572BB623E7}"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2CB7EC-20F6-4296-BA4E-56EFE95ADA4F}"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1DB401-A452-42C3-B134-F906346DF522}"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548595-0586-47C0-B9A6-7987A2D37048}"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3A04DE-BF08-481F-A551-934D3E4981AB}"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EC24F0-D6FD-4D28-8F11-E21F3AF99712}"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5DFEAF-B411-411B-B100-E8A1D36183CF}"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36FA89-5D69-4F27-A5DB-DDF8C878735E}"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0C4EB5-1CDF-4B50-94C4-7FC51F6900F7}"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24DFEC-A6A5-4974-BFAA-6AE998CCC5F0}"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C5345A-1B28-4629-AA8F-AAF4032B8E8A}"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650508-0DD8-44A9-89D1-F72969961F40}"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468ED6B-545D-4DED-A1E6-BE8F33E53EE4}"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033B4D-13EB-447F-B8F4-5D740113A8EB}"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FB8E41-EBAB-4D25-8F4E-6CE72F982C04}"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04331A-5589-4B1E-97B7-0A9817917CA1}"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677EF8-59AD-43DA-828E-E1FADF9CE04B}"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BDC680-919D-419B-90E1-AB9C36262F0E}"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24D949-45BC-4FE1-A875-2EB5B2451A9D}"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BD4C93-1880-4EBF-BAF4-5B489E3A9A85}"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5ED32E-0F17-47EF-ABDB-44A0E4D99358}"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258866-7A79-4FC0-BF57-BA604DFCA03D}"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73C868-641D-44B3-AAFE-CCB92EB1972E}"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59438B-6D8C-40A2-9A25-99CCEF7379CA}"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2BF44F-BB63-4FA6-8060-101B05EF5049}"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0EB13D-10D6-4215-B74F-4B223C26A2E3}"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5ADB29-128A-4BF6-BF09-ADB82BB68877}"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E88ACC-0068-46D9-9D7D-8C3CED791207}"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668BC4-C344-44AB-8486-9C83DEEE9B37}"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F36160-262C-4F54-BD6C-61FA5E52B974}"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FE06E4-188D-48F1-B541-D07E3F59A394}"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774AF1-9389-487A-A2B8-435F6C809805}"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9A03D6-B744-4968-BE9F-45D7CEF1FD5F}"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5A0A05E-0484-480A-A655-D6CEBA7BACFD}"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E5BEE0-3B0B-4D4A-BC0C-8AB0F9FEF7F1}"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2E2470-E72D-41A3-AD8C-01958CF19D8C}"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BFC4804-BEA0-4A08-BC23-7094A3E37159}"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A1CC83-EA29-47D8-B538-6791C856F6CF}"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288956-3BF1-444D-8D02-3C387761E7B5}"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E9789E-05BE-417C-83C5-8A2A25777AC3}"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01840F-BD78-4FB0-AF70-C51E24F5D272}"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E681BA-43EA-4B62-A459-57F347D65370}"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A22033-E46A-44B7-A5C8-62B7E9A52BDF}"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07A7D6-AE5D-4815-BBB1-5E19B839B1AB}"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4A20556-98E2-4927-9AEA-077B19F299C6}"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E90521-63E8-46B9-8E3C-4FB8A6D93521}"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F31088-2D5C-48E8-945B-9F8426D82A4A}"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240A2F-E72D-45CF-A9A6-952EF789F2A6}"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69BA78-C143-42FF-B740-AA9D2C6357B0}"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54C6EA-7116-43C7-8008-A3C9C31FC3DA}"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57D2CE9-AF2F-4814-A3A3-B01EDB447ABD}"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8AA6DE-9715-4AE6-B95B-33ACBE7BB531}"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CCFBCE-280D-4166-BF38-A1EA2B9FF9BC}"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FA554F-8732-48BC-9E93-B5196F9C1AE5}"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DCD793-1406-4A00-9266-E6F2093514B7}"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62DA083-4579-45CF-94D6-9121AD6B58EA}"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B63516-9808-4C51-9E57-61B13DACF8E7}"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94E2C1-1FBE-474C-B5B1-467DB5171745}"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8E95F3-ACBF-4325-9336-3DC5FD842E4C}"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8B4FDD-8923-42C9-B751-1875BE0EDFB5}"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C4031D-9CBE-46E0-B9B8-0F09D7617FE2}"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0A70DA-814A-4DDA-9E75-6355925A8A19}"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5A8C41F-9754-4124-A9FD-107AEA1AD28A}"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92D0F8-3301-4770-88A4-F854D99FC4E5}"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781E13-11A2-44CD-B11A-063CF0D97518}"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D14DF9-A170-4110-B65E-B3B4B3A628F4}"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065F7A8-88AF-46E8-9A68-2C7FE7CA040B}"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9E7930-942E-408F-AF37-45EC57F940E7}"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BE9F1E3-DDB3-46FA-9BF8-EA19B7C6AB09}"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EE1F11-3B59-4EE4-9E9F-642362BE7BC7}"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A42E57-3D40-4283-BA79-9512371BA7CB}"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D8C373-2C14-440A-947A-871278280E3A}"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DB1FE0-C68B-4E92-A9FC-BA316E07CE83}"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13E9EB-F8A0-4DEE-8117-74281CF33BE9}"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540CB4-2237-43D9-8B7B-D9BEC97293D5}"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A10B66-296D-4430-A127-B5FA5ABFF6BE}"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51D7B0-86DF-47E5-A2A7-DD77EBE8E6DE}"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D1EF7D-2252-464A-92E1-A8B6FCF91843}"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1135B7-B908-47A4-9E67-81A3EB27BD88}"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930E66-94DA-48D5-9463-11B1FE4E2633}"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DF8DB1-DFAD-4CF8-9E1D-4CB710E6F4D0}"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8AE4F5-344F-4E67-84C3-85B5E31F1F94}"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70DCB1-BC63-4638-9AF5-64849035A252}"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80C431-7EE1-4B29-8E64-EC2052F1F4A8}"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76E5FB0-2EB2-4491-BE07-66754CF249B3}"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10873F-FE7B-4A7D-BD10-77CC5D8A5058}"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43A26E-EF3E-4B27-A2DB-BFDD1B6CCE16}"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71630A-F069-4877-8A8D-B99B34C1EA46}"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E8D9C2-CECA-43D5-9B69-1E9A9BB9909C}"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492E3C-4938-42AD-AF86-A05A1E043224}"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F29332-850E-4E87-8536-93A3947ADF30}"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B8C9B0-01CA-4E0A-A67E-7C79B42661BC}"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A35BE4-8F40-43EB-A48D-6208A7B985ED}"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6EFC2C-2F33-40E8-B0AF-EB4112EF7CCF}"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215858-5B7A-41E0-8712-199B1C296D85}"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CD355F-C68D-41B2-B973-08D7EBD471C1}"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C03901-2ED7-4728-A519-0438D02E680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2C2F03-B552-4B1A-8017-1607E51FECE2}"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093799-E583-4E28-9980-D70D4B2BA565}"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AF5B9E-8060-4C6F-9C10-D8AA1AA09E7A}"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691454-BCF6-48D3-8679-95B36F0F196A}"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327907-06CD-4E91-89EF-A1A0B00FE5DB}"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4FFBE5-4D04-4496-9A46-AD0632EB52B1}"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6F9AAB-BF07-4A96-92F2-15E48939CB9A}"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3F5F4B-952F-4720-B553-9605C10CEAB7}"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190694-BB9A-41B9-8EBF-0E51807D9EBE}"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59E23B-12D3-4A5C-A69A-94A13CC428AC}"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5DCD50-1414-4002-9D19-255F25F7BE1C}"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4F2F63-CF84-46B7-B9FC-CD5B1AFAB8D2}"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C0AD83-AB72-4F60-B46D-DB5A431E34F3}"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F8F2AC-C73B-416D-8777-110456AD8238}"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4A8389-AA25-4DF2-A755-0CAD0040F129}"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810E92A-482C-41CA-8D5C-5DBE6AB4EBDE}"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31E182-4034-401C-8277-020FDCBE4E8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F196A0-6516-49B1-9D6D-5B42DB77EBF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EB6D66-7479-4093-98A8-B1EDFFB9075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E8B9CC-3FFF-4138-81FA-589091CC6EC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427566-D1FA-44FC-BADF-9122F72DFCE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ED8CDC-854F-4E00-B0C3-D3F47CBC479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21B5670-2186-4C57-8D7E-BD907B7771C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6E189A-9C2D-4A73-8D70-CA3A4396427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E9ACD1-194E-4AA9-AA4D-ED272F2C19D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8BB204-C12F-4A4E-877B-39DDF3E5E8D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5227ED-DDD4-4FAF-AF5A-61ECA40CF43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8722F5-E7E7-4814-BE21-C0DA34C5C0D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B7067D-92AC-4011-B47B-F0D04DE8C44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83FC73-4D66-424F-8502-9B4A3BECCE4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13898A-92F9-477B-B222-C125845B892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EE78E6-DA3B-4B5D-9B7D-A2C5C15AB35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C01F4A-F953-4E92-BE43-4F7B4F7680B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B0CF08-C82D-4987-8B91-D3B1A0FA7CA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58E0C4-9B3E-48E2-82D5-FE101C0EE6B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64DC7C-1BD7-4F05-8B62-2D27EAC7544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CE6192-58B7-4E02-9515-9E097CA55B2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790512-49D0-42D5-B954-0FE282ED57F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02E1C5-5F22-40BA-9367-A559883CFD4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CFC33F-A1F6-41ED-9833-5C94650B86E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329B07-C725-40DC-A344-8DB066F3CDA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CB377A-F876-48FA-B4A4-13EEB1C063B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435B24-EF2D-4B7A-B903-80A651D83AA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535B17-9786-4D95-88EC-E31D929FEA3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A39D87-714C-49A9-B543-E0DEFB0C55F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4415E0-67A0-42F4-8DB4-5C3F927A986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6E0B9E-0FD4-4E6C-BB4B-3003F7463C3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94B621-65B3-42E7-A9BA-6DCB707B40B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EC56A6-920B-477C-8E40-E9583BA6844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6E3832-34DD-451B-AAE4-2281E437561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812699-57BE-426A-A25F-C1B48D3F7DD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295DC8-B5A1-400B-8475-9C740EAC4E4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A7ADBE-A56C-4680-BB7D-350C62D8B07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427245-209A-4030-BC07-3F9EF83131B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C0D5E7-595C-4BD6-8094-4404D9B4BD1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D9945C-F72C-4FAB-934B-7B35565538E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3512F4-FF7B-48DC-A990-A9ED8AE25A6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C8CDB6-737E-4D06-914B-F228188860E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75B3C8-FD2D-4C26-96D9-48B72B84EE0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0555D9-92E4-4F8A-AAE0-2BF51035FF0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6AF9B7-F95E-4C75-AFE1-C6DDCE74D6D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8AA791-25C0-478E-8BFA-EE5D42990E7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B98E07-64EF-42F5-8952-857B276CDB4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B2539E5-2823-4ED4-B70B-06763AA176F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E6B8F8-2C09-4685-A22A-0859A3223D0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BD80D8-B0D9-4135-B00D-E10CF59D2DA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BAEBC5-2ADD-43A0-9140-60539854A64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C1F027-9BF3-4DCE-81CC-31006594ADA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6FD0B7-D33C-4700-A047-6F95CF6CEC0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925DF4-804F-43C1-9600-48A147853DE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5A3AFB-A4A0-40E7-A4D0-23EEAF4BF2C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F7A7A6-D4BF-4AC2-870B-60DBFC769D2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D5D347A-6F93-4A46-90B7-00FBBF2B874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A33640-8753-4DF3-87B9-3A428959FCF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58840E-E2E3-4350-8942-8C4950EA029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4AE975-BDD7-40B6-8B90-362BAD3AA06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7823F3-A5B3-43B1-9930-EBCECB23CC8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BCB18A-C734-4E31-8BFF-B5292D4752E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79AC79-E6D7-4846-9CCD-02395F869A1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C28339-D35D-4407-A93F-2A40A3B2058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05652A-37F9-4E1D-B7DD-9DF132AF4D5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4E943D-5AD6-43FB-9DAE-F5735BD800C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F3A425-B73D-4004-AAB9-03D50DB3EC2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06E5D0-DC24-4051-983C-16A00463793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DFBAD8-9231-4A5B-A44F-8CC5BA2C623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45C46D-2A42-475E-BE4D-4119982406F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AF717E-BA2F-4514-BF22-00E45BC3C3E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BB27B3F-CEF2-4F19-891A-E7ACF09E335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11390F-EF5F-41D3-93A4-C7297AAFFC6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FD9C45-2FF7-4150-87F7-BA737D60984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D5E8D9-33B8-4EAB-8C04-9D16D35DBBD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CBA6A7-5BD5-4719-82E3-EEC46D63790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41E04B-95BD-4671-A069-472C3067761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DEB741-8336-4BFD-A62E-6EE92BFCD56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A345B4-B511-47D5-B8B8-80EBD2A5FDE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39AFD4-AEB6-4CBF-9009-7E8CDFD61F8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7CAA79-699E-45F1-9DEA-284B688CB44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17B480-B490-40BC-935E-C8A57847A7C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3D73E9-76FC-4253-AA05-5F1D41525C7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40B6C2-CC3E-42CE-92CD-8C75764D427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220012-E279-4DA7-9E48-E777FC49941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