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36814"/>
        <c:axId val="47264135"/>
      </c:barChart>
      <c:catAx>
        <c:axId val="42636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4135"/>
        <c:crosses val="autoZero"/>
        <c:auto val="1"/>
        <c:lblAlgn val="ctr"/>
        <c:lblOffset val="100"/>
        <c:noMultiLvlLbl val="0"/>
      </c:catAx>
      <c:valAx>
        <c:axId val="47264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6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E17-3D41-4486-86AC-D1E4836C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DC9-60A4-49FC-A4D7-F7E98885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A7D-3C27-4CCE-944B-C475D072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359-ADFF-4D99-BA92-A8DABF5A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CE3-7F64-49A8-BAC7-C352F46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590-2DF6-44A9-B37B-1D294DA1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EA6-0F89-48DD-804B-CFF6F59E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485-0B09-4EAE-9049-90D62DD6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F3D-61FC-4F40-9B5D-86C2E10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5A2-D692-4735-BB4F-12F9EF3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2C1-0868-4C37-B344-61063F8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2A1-B82D-414F-B4A6-C3F3B26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6AE7E-3D38-458F-A456-54CC198CE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